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C17-F4F7-4229-AF76-920F048B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201-5125-40BF-B469-7A182CB5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F4A-B81D-4480-9AFF-15E19426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236-EEBB-4CB4-B5FA-A0669276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3686-B266-4A68-87A0-EC0FCBDD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E068-F5EC-4AE5-BA60-EAA2CEC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C9B9-1EC3-415D-9EEA-D4284F8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77F-2E31-4D6B-9791-456FC0B0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990-005D-4E26-906C-039642F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C4A-75A3-4E08-BFE3-4A919B8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4BBB-EF28-46EF-B71A-230586C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61B-46D5-4FB6-943B-3CBB45E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E30-A305-4B5E-B558-1B5F023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448D-D7EC-459D-9C13-510FE1D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5313-6752-4024-8D95-F0F771B4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B1A7-2A7B-4FB2-AE04-91C7F4B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9E6-0A5E-41E6-8921-5771241A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C8C-6035-43BF-8C8E-C22DFDD5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F90-25BA-443F-A449-F80F33E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2D5-A147-4A54-86B6-621A35F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412-6E96-42D9-B8DA-B8499A9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FB6-9343-4DCA-93E2-7CE6BF6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623-3181-4D28-A19C-BCF3F80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6F9-BDA1-4D24-B251-0F2AC9C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472-6E06-4870-AC2C-6D50C2C65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339-299F-418D-9151-185CCAEE3AB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77920" y="425520"/>
            <a:ext cx="19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清平乐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村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1752480"/>
            <a:ext cx="131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茅檐低小，溪上青青草。醉里吴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相媚好，白发谁家翁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大儿锄豆溪东，中儿正织鸡笼。最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儿亡赖，溪头卧剥莲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35000" y="4876920"/>
            <a:ext cx="883440" cy="52056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黑体"/>
              </a:rPr>
              <a:t>展现出一幅农家天伦之乐的风情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625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3680" y="228600"/>
            <a:ext cx="13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破 阵 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6858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赏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醉里挑灯看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743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树立了一位壮士怀才不遇的形象。以酒浇愁而醉，在醉眼朦胧中，也不忘将灯拨亮，不是抚琴，不是长歌，不是狂舞，而是在灯下仔细端详心爱的宝剑。因为只有宝剑是自己曾经的戎马生涯的见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可见词人想驰骋疆场的愿望是多么强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8240" y="1752480"/>
            <a:ext cx="4874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作者为什么要“饮醉”？醉之后为何要“挑灯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何要灯下看宝剑？这一切都是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87040" y="8618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梦回吹角连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366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209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带着这样的悲壮情怀入梦，梦醒之后，不禁浮想联翩，耳边似乎听到了军营中鼓角齐鸣，边声四起，不由使人产生出征杀敌的豪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609480"/>
            <a:ext cx="71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八百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麾下炙，五十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塞外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5840" y="2590920"/>
            <a:ext cx="463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战士们分食着烤熟的牛肉，军乐队奏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雄壮的塞外战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（另说：一望无际的八百里军营连军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处处都是炊烟烤牛肉，部队供养充足，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兵们同甘共苦，为战斗做准备，而鼓舞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气的悲壮乐曲更加激励着将士们，整个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营何等壮观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640" y="1266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44792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军旗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指军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121932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21932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34000" y="1187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48120" y="1171440"/>
            <a:ext cx="22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点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43828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在辽阔的战场上，秋高气爽，兵壮马肥，主帅开始检阅军队，军旗猎猎，士气高昂，整装待发，何等威风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此句将战前的准备与恢弘气势渲染得极为热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88680" y="704880"/>
            <a:ext cx="45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马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的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飞快，弓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霹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弦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方正姚体"/>
                <a:ea typeface="方正姚体"/>
              </a:rPr>
              <a:t>连用两个比喻，生动描绘出惊险激烈的战斗场面，写出了战斗的速战速决；表现出英雄身骑的卢般的骏马，冲锋陷阵，所向披靡，将士们万箭齐发，声如霹雳，使敌人闻风丧胆的情景，使人产生一种酣畅淋漓的快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52840" y="704880"/>
            <a:ext cx="50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了却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君王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天下事，赢得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生前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身后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8288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只要收复失地，不辱使命，完成统一大业，就可以了却君王的心愿，自己也可以声名大震，名传史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词人无法在现实中实现梦想，只好在想象中横刀跃马，实现自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但梦最终会被残酷的现实所嘲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81280" y="7891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可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白发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286000"/>
            <a:ext cx="70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走出幻想，仍然是壮志难酬，仍然是半壁江山，仍然是一事无成，无奈空有报国志，又怎能抵挡得了岁月蹉跎，白发丛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何等悲愤！何等苍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由使人产生对投降派的痛恨，对作者深深的同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42400" y="1362240"/>
            <a:ext cx="3711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怜”一词表现了作者怎样的心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0"/>
            <a:ext cx="769608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翻译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沉醉中挑亮灯光抽出剑来细看，梦醒后各个营垒接连响起号角之声。把烤牛肉分给部下饱餐一顿，琴瑟演奏出北疆苍凉的乐曲。在肃杀的秋风中，战场上军队正在检阅准备出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战马像的卢那样飞奔，放箭的弓弦如雷鸣使人心惊。多想完成君王统一国家的大业，自己也赢得一世乃至死后的英名。只可惜白发已现两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447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醉态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词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276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梦境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6386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现实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醉里挑灯看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86000"/>
            <a:ext cx="56386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梦回吹角连营。八百里分麾下炙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五十弦翻塞外声，沙场秋点兵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马作的卢飞快，弓如霹雳弦惊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了却君王天下事，赢得生前身后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638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怜白发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371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638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27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13372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34340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12952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破阵子》极写抗金部队壮盛的军容，横戈跃马的战斗生活以及收复祖国河山的畅想，这些都是作者醉梦中所不能忘怀的，但是他的想法被＂可怜白发生＂的现实碾碎了。作者在词中抒发了报国无门、壮志难酬的痛苦和愤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61040" y="654120"/>
            <a:ext cx="29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西江月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夜行黄沙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3600" y="1752480"/>
            <a:ext cx="121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明月别枝惊鹊，清风半夜鸣蝉。稻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香里说丰年，听取蛙声一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七八点星天外，两三点雨山前。旧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茅店社林边，路转溪桥忽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15160" y="4800600"/>
            <a:ext cx="2863080" cy="58140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心情闲适，完全陶醉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447920"/>
            <a:ext cx="85341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一，构思层层递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整首词按照“醉态—梦境—现实”谋篇布局，有条不紊。梦境中又展现了“战前准备、沙场点兵、冲锋陷阵、功成名就”的多方面情形，生动的描绘了一个爱国者驰骋沙场的全过程。环环相扣，层层递进，从而领略到作者运笔自如而又章法严谨的特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57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这首词基调豪迈高昂，大气磅礴，艺术成就极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685800"/>
            <a:ext cx="75438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二，结构奇特巧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词一般是上片写景，下篇抒情。这首词打破了这种格式，首尾两句相互照应，描写现实，中间八句一气呵成，描写梦境，梦境里追忆往事，豪迈激昂，现实中壮志难酬，沉痛悲愤，二者对比鲜明，深化主题。这种奇特巧妙的结构与内容配合得天衣无缝，显示了辛弃疾在艺术上的独创精神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6858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丑奴儿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书博山道中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1840" y="1568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辛弃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11120" y="2209680"/>
            <a:ext cx="78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少年不知愁滋味，爱上层楼；爱上层楼，为赋新词强说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而今识尽愁滋味，欲说还休；欲说还休，却道“天凉好个秋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952880"/>
            <a:ext cx="5334120" cy="520560"/>
          </a:xfrm>
          <a:prstGeom prst="rect">
            <a:avLst/>
          </a:prstGeom>
          <a:noFill/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抒发了被免官闲居的愁懑。一个“愁”字对比概括了一生体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05320" y="9907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西江月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遣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69680" y="1932120"/>
            <a:ext cx="506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醉里且贪欢笑，要愁那得工夫，近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始觉古人书，信着全无是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昨夜松边醉倒，问松：“我醉何如？”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疑松动要来扶，以手推松曰“去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5049720"/>
            <a:ext cx="7086600" cy="5814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含蓄深刻地表现出尝尽辛酸的 玩世不 恭和孤傲清醒的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228600"/>
            <a:ext cx="1676520" cy="99072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1066680"/>
            <a:ext cx="7010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秋夜将晓，出篱门迎凉有感（二首）陆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迢迢天汉西南落，喔喔邻鸡一再鸣。壮志病来消欲尽，出门搔首怆平生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其二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万里河东入海，五千仞岳上摩天。遗民泪尽胡尘里，南望王师又一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hh" descr="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0"/>
            <a:ext cx="853416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水龙吟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登建康赏心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辛弃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天千里清秋，水随天去秋无际。遥岑远目，献愁供恨，玉簪螺髻。落日楼头，断鸿声里，江南游子。把吴钩看了，栏杆拍遍，无人会，登临意。　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休说鲈鱼堪脍，尽西风、季鹰归未。求田问舍，怕应羞见，刘郎才气。可惜流年，忧愁风雨，树犹如此。倩何人，唤取红巾翠袖，握英雄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90920" y="0"/>
            <a:ext cx="3504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宋词的发展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95280"/>
            <a:ext cx="87440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词的最初名称是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曲子词”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，是为配合音乐而创作的歌辞。词大致产生在唐朝，它首先盛行于民间，后来文人注意了这种形式，开始介入它的文学创作。晚唐、五代，致力于词的文人逐渐增多，一些著名的词人如温庭筠、韦庄、李煜都具有自己独到的风格。此时，文人词和民间词的区分也逐渐明显，到了宋朝，由于特殊的历史条件导致了宋词空前的繁荣、发展与提高，并且产生了许多著名的词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85800"/>
            <a:ext cx="8896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北宋苏轼高举创新的旗帜，首先打破词的狭隘的传统观念，开拓词的内容，提高词的意境，开创了一种新的豪放词的风格。苏轼“以诗为词”，不仅用诗的某些表现手法作词，而且把词看作和诗具有同样言志的作用，使它具有较以前宽广得多的社会功能。他特别重视词的文学方面的意义，不把它作为音律的附庸，不让思想内容和艺术表达受损害，给词的发展注入新的血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990720"/>
            <a:ext cx="8534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词到南宋发展到了高峰。中原沦陷和南宋偏安的历史巨变，激起了南渡词人的爱国觉悟，整个词坛的面貌为之一新。此时，在士大夫阶层里涌现出一批坚决抗敌的词人，如岳飞，张孝祥等人，他们的作品表现爱国情感，气势壮大，对于豪放刚健的新风格的形成，有一定的贡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457200"/>
            <a:ext cx="8915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3333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辛弃疾、陆游两个伟大的作家，进一步发展了南宋词，尤其辛弃疾在词作方面，成就更为突出。他继承苏轼的革新精神，突出发扬了豪放的风格，扩大了词体的内涵，使其丰富多彩，把词推向更高的阶段。在词的创作手法上，他不仅运用古近体诗的句法作词，又吸收了散文、骈文、民间口语入词，辛词代表了文人词的最高成就。词是慷慨、豪迈，抒写抑郁不平之气。有时也存在用典过多，不免使人晦涩难懂的缺点。和他唱和的作家有陈亮、韩元吉、刘过等，就是与他的风格迥异的姜夔也写过仿效稼轩体的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00200" y="685800"/>
            <a:ext cx="49528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破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阵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666880"/>
            <a:ext cx="198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辛弃疾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4267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hh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457200"/>
            <a:ext cx="8628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南宋后期，以姜夔、张炎为代表，感喟哀时，描写亡国的惨变，抒发内心的黍离之悲。他们精通音律，偏重词的格律，讲求句法、字面，有时难免流于形式化，也束缚了词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总之，宋词无疑是中国诗歌史上一个新的里程碑，在将音乐与诗歌相结合方面，达到了唐诗所未能达到的独特的审美地步，在文学史上留取了自己的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80880"/>
            <a:ext cx="7391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辛弃疾：字幼安，号稼轩，  历城（山东济南）南宋词人。</a:t>
            </a:r>
            <a:r>
              <a:rPr b="1" lang="zh-CN" sz="3200" spc="-1" strike="noStrike">
                <a:solidFill>
                  <a:srgbClr val="ff00ff"/>
                </a:solidFill>
                <a:latin typeface="方正姚体"/>
                <a:ea typeface="方正姚体"/>
              </a:rPr>
              <a:t>是我国历史上一位值得纪念的民族英雄，也是最负盛名的伟大词人之一，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艺术风格多样，以豪放为主，热情洋溢，慷慨悲壮，笔力雄厚，与苏轼并称“苏辛”。有《稼轩长短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他 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21</a:t>
            </a:r>
            <a:r>
              <a:rPr b="1" lang="zh-CN" sz="3200" spc="-1" strike="noStrike">
                <a:solidFill>
                  <a:srgbClr val="006600"/>
                </a:solidFill>
                <a:latin typeface="方正姚体"/>
                <a:ea typeface="方正姚体"/>
              </a:rPr>
              <a:t>岁参加抗金义军，后历任湖北、江西、湖南、福建、浙东安抚使等职，一生坚持抗金，但不被采纳，不断受到主和派的打击，曾长期闲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4572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其词多抒写希望收复失地，国家统一的爱国热情倾诉内心悲愤，揭露南宋的屈辱投降，也有歌颂祖国大好河山的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方正姚体"/>
                <a:ea typeface="方正姚体"/>
              </a:rPr>
              <a:t>《破阵子》是一首自抒英雄情怀并用激励友人的壮词。陈亮与辛弃疾同属主战派，又同遭打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词中表达了作者渴望驰骋疆场，为国建功立业的愿望，但又报国无门，壮志难酬的感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114800"/>
            <a:ext cx="73152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MingLiU"/>
                <a:ea typeface="华文中宋"/>
              </a:rPr>
              <a:t>却将万字平戎策，换得东家种树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447920"/>
            <a:ext cx="78487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《破阵子》：词牌名</a:t>
            </a: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选自《稼轩长短句集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华文中宋"/>
                <a:ea typeface="华文中宋"/>
              </a:rPr>
              <a:t>陈同甫，名亮，南宋婺州（现在浙江省金华县）人，同辛弃疾是好朋友。赋，写作。壮词，雄壮的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57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题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2400" y="28954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10280" y="0"/>
            <a:ext cx="19432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破阵子</a:t>
            </a:r>
            <a:br>
              <a:rPr sz="40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陈同甫赋壮词以寄之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醉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挑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看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梦回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吹角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连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八百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麾下炙，五十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塞外声。沙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点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马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飞快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弓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霹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弦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了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君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天下事，赢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生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身后名。可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白发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3880"/>
            <a:ext cx="8458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麾（      ）         炙（      ）                                           的（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卢      霹雳（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666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505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d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429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295280"/>
            <a:ext cx="8001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读词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用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/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划出诗句的停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09:48:52Z</dcterms:created>
  <dc:creator/>
  <dc:description/>
  <dc:language>en-US</dc:language>
  <cp:lastModifiedBy>dell</cp:lastModifiedBy>
  <dcterms:modified xsi:type="dcterms:W3CDTF">2013-11-18T06:10:11Z</dcterms:modified>
  <cp:revision>60</cp:revision>
  <dc:subject/>
  <dc:title>幻灯片 1</dc:title>
</cp:coreProperties>
</file>